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4C8-A750-4439-96F1-F8DF76C5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C44-C49D-4990-A2C2-5C969D90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C2D-C0BC-4BF7-A2B3-8793615D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6D3-2374-42AE-A32C-57FE39E9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C86-B520-477B-BBBF-81F6F603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5C6-BC85-4F4B-BC5D-5FB752B1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109-7295-46E5-8533-830C017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F56-56EF-49E9-BD9A-2945385B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1DB-DE3D-46BC-BDB1-D856558F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021-C816-420D-89C1-F1B3ABD9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65D-DCDC-4FA8-8255-5EBA3D1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5D7-432D-4249-B9A6-C8AA7F5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3683-12F4-4F60-A7F3-950558ED4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Clase 7IL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3 de diciembre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27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a tu amigo ho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las oraciones con el verbo indic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rena _______ muy bonita y có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iana y yo ___________ cont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un muy buen alum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linda y Lucas _________  enfer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_________ antipático pero hoy yo _________ de mal hum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 y estar—caracteristica y condicion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haracteristics and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2 ways of saying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:   SER and ESTAR. Each of these verbs has VERY DIFFERENT 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expresses a trait or a characteristic that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muchacho ES moreno. Él ES muy sin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edificio ES muy a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762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R expresses a temporary state or conditon; a fe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an no ESTA bien hoy. ESTA enfer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La joven ESTA cans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ESTA nerviosa tam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6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7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95288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8:22:23Z</dcterms:created>
  <dc:creator>Helen Zumaeta</dc:creator>
  <dc:description/>
  <dc:language>en-US</dc:language>
  <cp:lastModifiedBy>Helen Zumaeta</cp:lastModifiedBy>
  <dcterms:modified xsi:type="dcterms:W3CDTF">2012-12-03T16:58:52Z</dcterms:modified>
  <cp:revision>15</cp:revision>
  <dc:subject/>
  <dc:title>Slide 1</dc:title>
</cp:coreProperties>
</file>